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6C69-8E0E-484B-8271-EC8ACB59A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1CD6-9A07-4E93-91EA-B1C1931F5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584B-3DC2-4B31-AE5A-6896D3569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CE5D-2854-4C23-B0D7-C02B6572E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89919-AF6E-4DCB-81B8-048627206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01F4B-C9B5-4974-A032-49174B535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C8F12-EE28-475C-AAA2-97146B5B9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78B7A-9C04-4917-867F-7682722E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8C23A-FFED-4996-AE22-0A30D4EC7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86E3D-9413-426B-B16F-7BF353B52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7D72E-4CD3-48CB-900D-D9591A96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5021-EC0D-406D-B851-B7551D352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BC645-112D-46B1-9B1E-1085994D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FE535-B75E-40EC-BD75-06C5FF36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7A5FF-C37E-4127-9C1B-D6DAE0991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95B2C-D078-433E-BC2E-05027C763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B8633-316E-4397-8857-397063E5B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F01B-AB76-46B4-8CA9-6591621A4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0A08-9723-4C72-BB1C-BF6756C1E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3D58-098C-46B1-8F71-30BB6F8A7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CAAB-6055-4A09-8E02-5866842CE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5911-315F-4521-9672-7DC9CD3A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BEAD-833D-4239-A558-B0419347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5C7A-BEFC-4D8A-AB78-62C5C0F0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CEF1A-7977-47EB-BFFD-9D07598FCF9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81080" y="2276280"/>
            <a:ext cx="460836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FIGURY GEOMETRYCZ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EA042-ED91-4697-9102-29CCEBC94F3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736640" y="1854360"/>
            <a:ext cx="639144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ODCINE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PORÓWNYWANIE ODCINKÓ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422360" y="1967040"/>
            <a:ext cx="7156440" cy="146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263080" y="3068640"/>
            <a:ext cx="3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16280" y="2259000"/>
            <a:ext cx="2655720" cy="53964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637000" y="2259000"/>
            <a:ext cx="3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292720" y="2798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36640" y="4643280"/>
            <a:ext cx="639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zęść prostej n, zawartej między punktami A i B nazywamy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odcinkie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Odcinek oznaczamy symbolicznie 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A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ub 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11280" y="1584360"/>
            <a:ext cx="6429240" cy="43052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106640" y="458640"/>
            <a:ext cx="77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skaż na rysunku pary odcinków o równej długoś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2000" y="4194000"/>
            <a:ext cx="34920" cy="9907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46720" y="4194000"/>
            <a:ext cx="30240" cy="9907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1640" y="4103640"/>
            <a:ext cx="0" cy="5857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02000" y="4103640"/>
            <a:ext cx="0" cy="5857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7000" y="2979720"/>
            <a:ext cx="7207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07000" y="4915080"/>
            <a:ext cx="7207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02360" y="2664000"/>
            <a:ext cx="21960" cy="6300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912000" y="2619360"/>
            <a:ext cx="22320" cy="63036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72000" y="4915080"/>
            <a:ext cx="5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02000" y="4915080"/>
            <a:ext cx="4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42000" y="500364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42000" y="3968640"/>
            <a:ext cx="3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932360" y="3062160"/>
            <a:ext cx="40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32360" y="252900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97360" y="450864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97360" y="3968640"/>
            <a:ext cx="4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237360" y="500364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237360" y="3968640"/>
            <a:ext cx="4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27360" y="266400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46640" y="266400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597720" y="248436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97720" y="306216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57720" y="3968640"/>
            <a:ext cx="5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7720" y="4508640"/>
            <a:ext cx="49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316640" y="4824360"/>
            <a:ext cx="4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37360" y="4824360"/>
            <a:ext cx="4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316640" y="5499000"/>
            <a:ext cx="4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PORÓWNYWANIE ODCINKÓ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6640" y="77328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16640" y="4869000"/>
            <a:ext cx="103500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62720" y="5543640"/>
            <a:ext cx="1888920" cy="0"/>
          </a:xfrm>
          <a:prstGeom prst="line">
            <a:avLst/>
          </a:prstGeom>
          <a:ln w="15840">
            <a:solidFill>
              <a:srgbClr val="99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6308640"/>
            <a:ext cx="2879640" cy="0"/>
          </a:xfrm>
          <a:prstGeom prst="line">
            <a:avLst/>
          </a:prstGeom>
          <a:ln w="1584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 rot="2464200">
            <a:off x="1106280" y="1898640"/>
            <a:ext cx="3509640" cy="3510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381640" y="5499000"/>
            <a:ext cx="4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92720" y="6264360"/>
            <a:ext cx="4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316640" y="6264360"/>
            <a:ext cx="4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1.11111E-006 L 0.44809 -0.07199 E">
                                      <p:cBhvr>
                                        <p:cTn id="6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4809 -0.07199 L 0.44809 0.01991 E">
                                      <p:cBhvr>
                                        <p:cTn id="10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4809 0.01991 L 0.44809 0.13148 E">
                                      <p:cBhvr>
                                        <p:cTn id="14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006640" y="2438280"/>
            <a:ext cx="585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0000"/>
                </a:solidFill>
                <a:latin typeface="Verdana"/>
              </a:rPr>
              <a:t>Ćwiczenie: Narysuj dowolne trzy odcinki i za pomocą cyrkla porównaj ich długośc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8T21:30:50Z</dcterms:modified>
  <cp:revision>16</cp:revision>
  <dc:subject/>
  <dc:title>Slajd 1</dc:title>
</cp:coreProperties>
</file>